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ct" ContentType="image/x-pict"/>
  <Override PartName="/ppt/media/image10.pct" ContentType="image/x-pict"/>
  <Override PartName="/ppt/media/image13.png" ContentType="image/png"/>
  <Override PartName="/ppt/media/image11.pct" ContentType="image/x-pict"/>
  <Override PartName="/ppt/media/image12.pct" ContentType="image/x-pi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229-50C8-4933-A85E-F7F3673D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1F4-3A73-4BCC-9444-D096DE3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C28-C939-4790-9C79-4A8EFD0F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E8C-26B4-45D3-A43C-854C461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B2D-F6D5-47D9-8278-298F4B69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C1F8-995F-44F0-AEC8-5CAB26E3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FB61-7683-4826-83BC-610A4CD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A0F6-1B81-4C11-9A89-D5B0390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5E7F-A23B-4139-A0AB-3D13616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630-4D9F-465C-92FD-E123838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4AE2-AE85-4C87-8AD2-B005886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627-203F-4388-9EE3-E533B921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7FE7-ACB3-46AA-9E5F-623CC9C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977-1CB0-4A99-BFC6-B1ADC22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7B4C-20FB-47D9-A1FF-77C3D74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D0B-D651-4D69-B9A3-D9CA31DE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921-5A8C-48C3-B86E-0AC24FD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861D-D413-42D4-B192-046C877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9AF3-F208-4F99-89D5-E66CD1B1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2703-D133-4D0A-88B5-D0C311D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4EF8-9B79-41F2-BA3A-BCF422C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9988-9664-4118-BB2B-D9A3F3D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8E6-9102-48F5-A203-6151A22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5D4F-5984-43AC-B76F-D484D9E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AD6B-00C7-4063-B6F2-23D8D35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A382-B4FC-4E17-9A04-3C599BD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D03F-30F2-4F08-9C9D-F430BA9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7F06-13CD-4F0B-A282-4A43C7C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F041-092D-42EB-B056-900E04C9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78B4-12FA-4A52-8CB6-780B33C2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7D35-8B17-4A96-B604-66CA1D43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A73D-6256-4F40-8369-353CED6C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76F0-9F42-42D3-9320-CFF0835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F69-EA9A-48EC-A972-132F049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6773-B213-4A4B-A86D-D894235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993A-7E21-46AC-9A6D-84F44B0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B545-4DDB-4BED-A472-ADF3F50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67E1-5D1D-471E-A5FD-9147E51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479C-439A-4AC1-A826-00AD97E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C6EC-A54B-45B8-9A01-D8B9242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7BF7-A52A-40F7-8CE4-6F8343D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54EA-AFD0-4996-97D8-124D38A9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60C1-A684-4285-9CDE-DCC5637F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195-B409-401F-9A2F-776B720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843-9162-4C93-B940-AE73C43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945-75BF-4CC1-AE9A-1CE3ACD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650-088B-481F-BD39-8A1AC40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411-089B-453E-A52B-1829DFF1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C304-420A-40EE-8849-93CC86FF9A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E867-33F1-4A71-AFF9-BCA97371B2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4e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C8B6-8DCA-4EA5-B233-4A616739CBB8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8CD0-EF71-4357-8D92-014F6B9335CE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8f4ec"/>
                </a:solidFill>
                <a:latin typeface="Gill Sans Ultra Bold"/>
              </a:rPr>
              <a:t>SHORT STORY TERMS</a:t>
            </a:r>
            <a:endParaRPr b="0" lang="en-US" sz="6500" spc="-1" strike="noStrike">
              <a:solidFill>
                <a:srgbClr val="f8f4ec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00400" cy="3200400"/>
          </a:xfrm>
          <a:prstGeom prst="rect">
            <a:avLst/>
          </a:prstGeom>
          <a:ln w="57240">
            <a:solidFill>
              <a:srgbClr val="0259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33520" y="4952880"/>
            <a:ext cx="3809880" cy="0"/>
          </a:xfrm>
          <a:prstGeom prst="line">
            <a:avLst/>
          </a:prstGeom>
          <a:ln w="66600">
            <a:solidFill>
              <a:srgbClr val="025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SETTING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417680" y="289548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c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ime period that a story takes place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400" y="1981080"/>
            <a:ext cx="396216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400" spc="-1" strike="noStrike" u="sng">
                <a:solidFill>
                  <a:srgbClr val="0259ff"/>
                </a:solidFill>
                <a:uFillTx/>
                <a:latin typeface="Verdana"/>
              </a:rPr>
              <a:t>Protagonist</a:t>
            </a:r>
            <a:r>
              <a:rPr b="1" lang="en-US" sz="28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" y="2666880"/>
            <a:ext cx="391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Central character in a story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18080" y="1981080"/>
            <a:ext cx="39625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842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ff0842"/>
                </a:solidFill>
                <a:uFillTx/>
                <a:latin typeface="Verdana"/>
              </a:rPr>
              <a:t>Antagonist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5280" y="2666880"/>
            <a:ext cx="391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Character or force that works </a:t>
            </a:r>
            <a:r>
              <a:rPr b="1" lang="en-US" sz="3200" spc="-1" strike="noStrike" u="sng">
                <a:solidFill>
                  <a:srgbClr val="f8f4ec"/>
                </a:solidFill>
                <a:uFillTx/>
                <a:latin typeface="Verdana"/>
              </a:rPr>
              <a:t>against</a:t>
            </a: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 the protagonist.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1981080"/>
            <a:ext cx="0" cy="3124440"/>
          </a:xfrm>
          <a:prstGeom prst="line">
            <a:avLst/>
          </a:prstGeom>
          <a:ln w="5724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4e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124080" y="50292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7632720" cy="990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CHARACTERIZATION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86236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thod used by a writer to develop a character.. It may include: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character's appearance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character's actio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character’s speech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 revealing the character's thoughts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 getting the reactions of others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78272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INTERNAL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CONFLICT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468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self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960" y="324648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842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EXTERNAL </a:t>
            </a:r>
            <a:r>
              <a:rPr b="1" lang="en-US" sz="3800" spc="-1" strike="noStrike">
                <a:solidFill>
                  <a:srgbClr val="ff0842"/>
                </a:solidFill>
                <a:latin typeface="Verdana"/>
              </a:rPr>
              <a:t>CONFLICT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08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4ec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man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nature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society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600" y="220968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THEME:</a:t>
            </a:r>
            <a:endParaRPr b="0" lang="en-US" sz="38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819520"/>
            <a:ext cx="75438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 general statement about life or human nature that can be taken from a story;  the story’s main idea</a:t>
            </a:r>
            <a:endParaRPr b="0" lang="en-US" sz="34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Any ideas what the parts of the story are and how you would diagram them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EXPOSITION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the story’s opening; background information (</a:t>
            </a:r>
            <a:r>
              <a:rPr b="1" lang="en-US" sz="2400" spc="-1" strike="noStrike">
                <a:solidFill>
                  <a:srgbClr val="00d0ff"/>
                </a:solidFill>
                <a:latin typeface="Times New Roman"/>
              </a:rPr>
              <a:t>setting, characters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INITIAL CONFLICT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d0ff"/>
                </a:solidFill>
                <a:latin typeface="Times New Roman"/>
              </a:rPr>
              <a:t>main issue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that needs to be overcome/resolved by the main characte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RISING ACTION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more problems/events leading to the climax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CLIMAX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- the crisis, or most exciting point in the plot where emotion peaks; the </a:t>
            </a:r>
            <a:r>
              <a:rPr b="1" i="1" lang="en-US" sz="2400" spc="-1" strike="noStrike">
                <a:solidFill>
                  <a:srgbClr val="00d0ff"/>
                </a:solidFill>
                <a:latin typeface="Times New Roman"/>
              </a:rPr>
              <a:t>turning point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DENOUEMENT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stage where the conflict is </a:t>
            </a:r>
            <a:r>
              <a:rPr b="1" lang="en-US" sz="2400" spc="-1" strike="noStrike" u="sng">
                <a:solidFill>
                  <a:srgbClr val="00d0ff"/>
                </a:solidFill>
                <a:uFillTx/>
                <a:latin typeface="Times New Roman"/>
              </a:rPr>
              <a:t>resolved                  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04920" y="1371600"/>
            <a:ext cx="8458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Now, you try: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f02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f02b"/>
                </a:solidFill>
                <a:latin typeface="Arial"/>
              </a:rPr>
              <a:t>On a blank piece of paper, draw and complete a story map for a movie you’ve seen recently </a:t>
            </a:r>
            <a:r>
              <a:rPr b="1" lang="en-US" sz="2800" spc="-1" strike="noStrike" u="sng">
                <a:solidFill>
                  <a:srgbClr val="ff0842"/>
                </a:solidFill>
                <a:uFillTx/>
                <a:latin typeface="Arial"/>
              </a:rPr>
              <a:t>or</a:t>
            </a:r>
            <a:r>
              <a:rPr b="1" lang="en-US" sz="2800" spc="-1" strike="noStrike">
                <a:solidFill>
                  <a:srgbClr val="ff084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f02b"/>
                </a:solidFill>
                <a:latin typeface="Arial"/>
              </a:rPr>
              <a:t>a book you’ve read.</a:t>
            </a:r>
            <a:r>
              <a:rPr b="1" i="1" lang="en-US" sz="2800" spc="-1" strike="noStrike">
                <a:solidFill>
                  <a:srgbClr val="42f0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67080" y="3932280"/>
            <a:ext cx="4343400" cy="270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371600" y="428004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*Include at least 2 rising action events and 2 falling action events.</a:t>
            </a:r>
            <a:endParaRPr b="0" lang="en-US" sz="16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0:07:54Z</dcterms:created>
  <dc:creator>PSD</dc:creator>
  <dc:description/>
  <dc:language>en-US</dc:language>
  <cp:lastModifiedBy>PSD</cp:lastModifiedBy>
  <dcterms:modified xsi:type="dcterms:W3CDTF">2009-12-01T16:34:59Z</dcterms:modified>
  <cp:revision>9</cp:revision>
  <dc:subject/>
  <dc:title>SHORT STORY TERMS</dc:title>
</cp:coreProperties>
</file>